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7D0C-75B7-4972-B2E7-FEC06B0F8BC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2634-968F-4986-9438-5E185FF21D5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4695-7BA0-4FE6-84E2-33286DD78F4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FB63-7E94-45A2-BCE3-15B6682A090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8CA7-C54C-4ED0-959D-9B232597C19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47B7-D9D6-466C-864D-32F657D2F72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7D52-A69F-4F22-A02F-981441DCDD5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D13D-3F0C-497C-9303-02724A0646C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7991-0FAB-4C2D-A134-AE36DA4485A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2D97-9966-440A-AC88-ACDB385BA05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BD43-1F3B-4A6D-9667-BED8EBC3BD8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213E-AA54-4114-B134-5F1FB806B31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A6E6-90EB-4601-B015-AC166B2A922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6ABF-96F8-4B85-BA8E-81096C11862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AC7E-0CEB-4505-A2C3-5F19A4C8A2B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7A02-727D-4F55-94FC-BE322B120E0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47F2-101C-4EE0-9FDF-5A5DE49A5AD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7CB8-91D7-41AD-A67F-442391A5E3F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7A8B-7CA9-418A-9EA8-B365AFB44F4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E9F0-7CB9-4B5C-80EE-85BD7584E34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1E82-6759-492D-93D7-2EDA2E8E1D7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EDE9-D0DB-4401-80D3-E1516BD9322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8A97-A848-4E8C-B491-DE94DA5D366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AF08-F9B1-4E01-A932-EE50C24570B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0F98-E8D1-4FA5-96F2-2D549183CC1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0CA6-2CFF-4321-97ED-ED6092658EA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FD2C-D95A-4B80-BB10-5FEC8E2E712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BADF-BFA0-4222-AF23-8EFAF203D18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D394-C7E7-4AEA-ADA5-7BA0F9A1457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AC91-F143-4B7C-9E2C-EF1F457536B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F7F4-36ED-48F3-A96F-D08698C3145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8BA2-CB39-43C4-A370-02F8E174F98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91E0-5B3C-4DE9-AD74-33A0E28AB53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C8ED-AE99-4F87-84EB-C415241499E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32A2-6A4F-4855-B15E-9AF5AC905B2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6078-0450-4EBC-9C60-45A9CF2DB59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346F-1AB5-4A45-A005-1E0A2992E09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7D32-92D9-42DA-8581-0419443178F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1E68-F1B4-4453-9102-E360E173302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C8F1-6495-4CC1-954A-96105E7F758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6227-5826-41C0-9A5C-85BFF6E3F70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7D95-BB46-4D3A-A621-13D3D5127A9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2305-53D0-4F39-B77E-9DCFE797019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6419-6BD0-434C-8F77-91FFA5F1312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FC4E-0AEE-4C27-9387-6C83057701F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481D-23DE-43F0-BEA7-1E992294D22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7E50-48F2-4933-908C-4FD29289244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7A3F-DBBD-4D8D-BC8D-5B2C79DA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5F9F-D970-4E9D-AABC-51F7B700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F1B9-6069-4D2B-9598-11C86942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E603-AA39-4808-A201-B6BCDDE5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D58A-6405-4122-8003-81EF6451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D931-CB99-4A0B-904C-6AF4551F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62A8-6EDA-4059-9C47-FC25B07E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EDD8-5F75-42C8-960B-255566ED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CACF-451D-495B-BA88-4E492302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4CAE-5C2A-41F2-9CC1-1626BDB5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2BDD-C9D9-4D36-8C4C-4D086A5D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3B9F-77A5-422D-86B8-A928F70D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9629-063F-4C98-ABEC-55FF7F895549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好久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ǎojiǔ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오랫동안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清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qīngchu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뚜렷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ǎ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달리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洗手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654240"/>
            <a:ext cx="62643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xǐshǒujiān</a:t>
            </a:r>
            <a:endParaRPr b="0" lang="en-US" sz="9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화장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教室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àosh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교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粉笔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ěnb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분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jù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마디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편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话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uà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意思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ìs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의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뜻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听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ī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듣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打招呼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6452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dǎzhāohu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인사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不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úji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만나지 않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23808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fāngfǎ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방법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常常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766920"/>
            <a:ext cx="62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chángcháng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자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晚安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ǎn'ā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안녕히 주무세요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如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rúguǒ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만약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熟人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shúré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잘 아는 사람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ě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등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따위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表示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iǎosh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600" spc="-1" strike="noStrike">
                <a:solidFill>
                  <a:srgbClr val="000000"/>
                </a:solidFill>
                <a:latin typeface="Arial"/>
              </a:rPr>
              <a:t>나타내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关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guānxīn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관심을 갖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空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ò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틈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收拾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shōushi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정리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挺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ǐ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매우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房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fángjiān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방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机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īhu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기회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的话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ehuà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하다면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大衣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àyī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외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先生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654240"/>
            <a:ext cx="62643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xiānsheng</a:t>
            </a:r>
            <a:endParaRPr b="0" lang="en-US" sz="9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선생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씨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帮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ā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돕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不错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úcuò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좋다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괜찮다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书法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ūfǎ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서예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点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iǎnxi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간식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과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饭店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fàndi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호텔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식당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哇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ā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감탄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放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àngxī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안심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工夫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ōngf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여가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틈 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工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gōngzuò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일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汽车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ìchē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자동차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所有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uǒyǒ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모든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小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ǎoxī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조심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新闻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īnwé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뉴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照片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zhàopiàn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사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机场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īchǎ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공항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长城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781320"/>
            <a:ext cx="6264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000000"/>
                </a:solidFill>
                <a:latin typeface="Arial"/>
              </a:rPr>
              <a:t>Chángchéng</a:t>
            </a:r>
            <a:endParaRPr b="0" lang="en-US" sz="7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만리장성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京剧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īngjù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경극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讲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ǎ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설명하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2:44:05Z</dcterms:created>
  <dc:creator>System</dc:creator>
  <dc:description/>
  <dc:language>en-US</dc:language>
  <cp:lastModifiedBy>System</cp:lastModifiedBy>
  <dcterms:modified xsi:type="dcterms:W3CDTF">2014-01-28T04:11:22Z</dcterms:modified>
  <cp:revision>15</cp:revision>
  <dc:subject/>
  <dc:title>슬라이드 1</dc:title>
</cp:coreProperties>
</file>